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E532-8159-491A-8849-AE2573F5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DA1F-A2A2-4F54-9838-EA39687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872A-B6BE-477E-9E07-E6B10404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1F91-7861-453D-850E-B74A33DF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1629-70B1-4359-AAEE-38A30F2D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A2EF-C9E9-45DD-9481-87E12E0B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6B3B-12D8-4339-B3D1-092E6E3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829E-11C2-4398-A609-62AEC90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B010-8B85-4FE8-A20A-378A931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A31F-911A-40A7-8FA7-24D0EAAC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89FA-E730-4AD6-89C6-DAFA2AF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ED1A-C20E-468B-9575-1463721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65CF-C34E-401A-BDB2-2097BF27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A1F-D9DA-49A9-B064-5AB033D3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16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odal.ercot.com/docs/pd/mis-edw/index.html#oth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January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Reports Struc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DSM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990720"/>
            <a:ext cx="8229600" cy="4952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SML – Nodal Data Services Mast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 to provide reports required by Nodal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Project: greater than 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Report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SML on web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docs/pd/mis-edw/index.html#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ta/Report Reten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ata storage requirements are 3G per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double with Real-time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market input on reasonable retention period for each report/ext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inu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orts/Extracts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that data be provided as a CSV file that can be used by MPs read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that reports that contain more than 50 rows of data be provided as data extr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hat a group be formed to advise on questions that may come up during the requirements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8-01-15T23:48:57Z</dcterms:modified>
  <cp:revision>48</cp:revision>
  <dc:subject/>
  <dc:title>Instructions</dc:title>
</cp:coreProperties>
</file>